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A7073-E86E-45C6-8FC0-B6A53D5E0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0ECC6-7EA1-4081-B79F-6A8F3A2C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FDC1-BC02-46E1-B2CE-A71625C91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63235-4F68-4EEB-BDD9-0D6F1C3BF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68368-35A4-4040-B0A6-987AE8336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D1F47-8DBA-406E-8903-E56AFF013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88363-F10C-49F6-BFB9-3A2DF902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44CA-2853-4C1B-88CC-7A2C3F9E0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124CF-2A3B-46A0-9CEE-D3188CCA4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3B039-772C-4870-B7AE-3EFFB6836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36C7-F8F2-4887-A3FA-F0DB6DC5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B7D09-78FC-4FE9-BD6E-DEB2F277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0B52-B037-4A19-A3F3-47388AB46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78D5B-43DF-41C9-98F5-D8808E4B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9E20E-FE25-4820-9C57-1DEED675B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FC052-327D-4A5D-83CA-5B03D4699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81729-44D0-4890-8FC7-72B3B4368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F705-47FC-4276-8914-1EF5B3ECA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9ABCF-CD7B-4587-AB3A-95CA0C9A2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8FE7-1825-4060-B38D-79106F191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D8BC5-8068-4899-ADB4-36F755D57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485C-2C90-4606-B9A8-B9C09B40C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06EB-789C-4AA8-AA2C-D5368D0FD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5CD3-E984-495A-8DC0-68D43BFB1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79DC-1988-4170-8A8C-C3E06A6AE5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F3CD-5206-4F49-8734-E763549B76A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121932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How the Virtual World Looks from our Window:  Select Policies, Regulations and Codes of Conduct </a:t>
            </a:r>
            <a:endParaRPr b="0" lang="en-US" sz="3600" spc="-1" strike="noStrike">
              <a:solidFill>
                <a:srgbClr val="000000"/>
              </a:solidFill>
              <a:latin typeface="Arial"/>
            </a:endParaRPr>
          </a:p>
        </p:txBody>
      </p:sp>
      <p:sp>
        <p:nvSpPr>
          <p:cNvPr id="100" name=""/>
          <p:cNvSpPr/>
          <p:nvPr/>
        </p:nvSpPr>
        <p:spPr>
          <a:xfrm>
            <a:off x="838080" y="3505320"/>
            <a:ext cx="784872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Policy Services – Erie 1 BOC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Handwriting"/>
              </a:rPr>
              <a:t>July 15, 201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Karen)</a:t>
            </a:r>
            <a:br>
              <a:rPr sz="1400"/>
            </a:br>
            <a:r>
              <a:rPr b="1" lang="en-US" sz="2400" spc="-1" strike="noStrike">
                <a:solidFill>
                  <a:srgbClr val="333399"/>
                </a:solidFill>
                <a:latin typeface="Tahoma"/>
              </a:rPr>
              <a:t>Electronic Communication</a:t>
            </a:r>
            <a:r>
              <a:rPr b="1" lang="en-US" sz="4000" spc="-1" strike="noStrike">
                <a:solidFill>
                  <a:srgbClr val="333399"/>
                </a:solidFill>
                <a:latin typeface="Tahoma"/>
              </a:rPr>
              <a:t> </a:t>
            </a:r>
            <a:r>
              <a:rPr b="1" lang="en-US" sz="2400" spc="-1" strike="noStrike">
                <a:solidFill>
                  <a:srgbClr val="333399"/>
                </a:solidFill>
                <a:latin typeface="Tahoma"/>
              </a:rPr>
              <a:t>Devices </a:t>
            </a:r>
            <a:br>
              <a:rPr sz="2400"/>
            </a:br>
            <a:r>
              <a:rPr b="1" lang="en-US" sz="2400" spc="-1" strike="noStrike">
                <a:solidFill>
                  <a:srgbClr val="333399"/>
                </a:solidFill>
                <a:latin typeface="Tahoma"/>
              </a:rPr>
              <a:t>and Employee Privacy Rights:  </a:t>
            </a:r>
            <a:br>
              <a:rPr sz="2400"/>
            </a:br>
            <a:r>
              <a:rPr b="1" lang="en-US" sz="2400" spc="-1" strike="noStrike">
                <a:solidFill>
                  <a:srgbClr val="333399"/>
                </a:solidFill>
                <a:latin typeface="Tahoma"/>
              </a:rPr>
              <a:t>Recent U.S. Supreme Court decision</a:t>
            </a:r>
            <a:endParaRPr b="0" lang="en-US" sz="2400" spc="-1" strike="noStrike">
              <a:solidFill>
                <a:srgbClr val="333399"/>
              </a:solidFill>
              <a:latin typeface="Tahoma"/>
            </a:endParaRPr>
          </a:p>
        </p:txBody>
      </p:sp>
      <p:sp>
        <p:nvSpPr>
          <p:cNvPr id="118" name="PlaceHolder 2"/>
          <p:cNvSpPr>
            <a:spLocks noGrp="1"/>
          </p:cNvSpPr>
          <p:nvPr>
            <p:ph/>
          </p:nvPr>
        </p:nvSpPr>
        <p:spPr>
          <a:xfrm>
            <a:off x="838080" y="1981080"/>
            <a:ext cx="77724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y of Ontario v. Quon, the Court held that the City of Ontario California Policy Department’s audit of Sgt. Quon’s  text messages (sent and received on his city-issued pager) was reasonable and did not violate his Fourth Amendment right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reme Court decided this case on very narrow grounds.  This decision </a:t>
            </a:r>
            <a:r>
              <a:rPr b="1" i="1" lang="en-US" sz="2400" spc="-1" strike="noStrike">
                <a:solidFill>
                  <a:srgbClr val="000000"/>
                </a:solidFill>
                <a:latin typeface="Tahoma"/>
              </a:rPr>
              <a:t>does not</a:t>
            </a:r>
            <a:r>
              <a:rPr b="0" lang="en-US" sz="2400" spc="-1" strike="noStrike">
                <a:solidFill>
                  <a:srgbClr val="000000"/>
                </a:solidFill>
                <a:latin typeface="Tahoma"/>
              </a:rPr>
              <a:t> establish far-reaching precedent on the general use of electronic communication devices in the workplace (eg., the existence and extent of employee privacy rights when using employer-provided communication de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cent U.S. Supreme Court decision (continued):</a:t>
            </a: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reme Court acknowledged, “</a:t>
            </a:r>
            <a:r>
              <a:rPr b="0" i="1" lang="en-US" sz="2400" spc="-1" strike="noStrike">
                <a:solidFill>
                  <a:srgbClr val="000000"/>
                </a:solidFill>
                <a:latin typeface="Tahoma"/>
              </a:rPr>
              <a:t>rapid changes in the dynamics of communication and information transmission</a:t>
            </a:r>
            <a:r>
              <a:rPr b="0" lang="en-US" sz="2400" spc="-1" strike="noStrike">
                <a:solidFill>
                  <a:srgbClr val="000000"/>
                </a:solidFill>
                <a:latin typeface="Tahoma"/>
              </a:rPr>
              <a:t>” in both the actual technologies used and what society accepts as proper behavio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the Court emphasized, “</a:t>
            </a:r>
            <a:r>
              <a:rPr b="1" i="1" lang="en-US" sz="2400" spc="-1" strike="noStrike">
                <a:solidFill>
                  <a:srgbClr val="000000"/>
                </a:solidFill>
                <a:latin typeface="Tahoma"/>
              </a:rPr>
              <a:t>employer policies concerning communications will of course shape the reasonable expectations of their employees, especially to the extent that such policies are clearly communic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cent U.S. Supreme Court decision (continued):</a:t>
            </a:r>
            <a:endParaRPr b="0" lang="en-US" sz="2800" spc="-1" strike="noStrike">
              <a:solidFill>
                <a:srgbClr val="333399"/>
              </a:solidFill>
              <a:latin typeface="Tahoma"/>
            </a:endParaRPr>
          </a:p>
        </p:txBody>
      </p:sp>
      <p:sp>
        <p:nvSpPr>
          <p:cNvPr id="122" name="PlaceHolder 2"/>
          <p:cNvSpPr>
            <a:spLocks noGrp="1"/>
          </p:cNvSpPr>
          <p:nvPr>
            <p:ph/>
          </p:nvPr>
        </p:nvSpPr>
        <p:spPr>
          <a:xfrm>
            <a:off x="609120" y="2057040"/>
            <a:ext cx="826956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ance from the Supreme Court’s decis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an explicit and intelligible electronic communications policy for all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communicate the policy to your employee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 (in writing) employees’ receipt of the policy;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the policy regularly and update or amend it as need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ently apply the policy in your workplace (eg., no ad hoc exceptions or special treatment);</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that any investigations into potential employee misconduct are conducted for a legitimate work-related purpose and are properly limited in scope; an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 changes in technology and consult with legal counsel as needed and when potential violations of electronic communications policies ar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rie 1 BOCES Use of Technology Agreement (Form #6410F)</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erly referred to as the AUP (Acceptable Use Polic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t be acknowledged annuall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s all “authorized user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guidelines regarding cell phones provided by BOCES and own personal technology equipment (on E1B Wireless Guest Network);</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collaboration tools (blogs, wikis &amp; social networking).</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cial Networking Sites (SNS) Guidelines (Regulation #6000R.1) </a:t>
            </a: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and risks of S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fter District creates a “District S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Quality Contro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tain Content Integr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District Expectations for Personnel are the same</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rtual World vs. Real Wor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w Email Regulations</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ail Acceptable Use Poli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Personal Technology Equip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 Security Guidelin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on Wik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ard Email Disclaimer</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PLE for attachment to outgoing emails from your organization.</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Confidentiality Notic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is electronic message and any attachments may contain confidential or privileged information, and is intended only for the individual or entity identified above as the addressee. If you are not the addressee (or the employee or agent responsible to deliver it to the addressee), or if this message has been addressed to you in error, you are hereby notified that you may not copy, forward, disclose or use any part of this message or any attachments. Please notify the sender immediately by return e-mail or telephone and delete this message from your system.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ullying: Peer Abuse in the Schools (Policy #7552) </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ions to existing Policy address “Cyberbullying;”</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yberbullying may occur on and off school grounds and may involve student use of the District Internet system or student use of personal digital devices while at school (eg., cell phones, digital cameras, personal computer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yberbullying may include harassing, teasing, intimidating, threatening, or terrorizing a student or staff member with any technology tool (eg., sending inappropriate e-mails, instant messages, text messages, photos or images, or Web site postings (including blog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 should be clearly addressed in </a:t>
            </a:r>
            <a:r>
              <a:rPr b="0" i="1" lang="en-US" sz="2000" spc="-1" strike="noStrike">
                <a:solidFill>
                  <a:srgbClr val="000000"/>
                </a:solidFill>
                <a:latin typeface="Tahoma"/>
              </a:rPr>
              <a:t>District Code of Conduc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yberbullying Behavior in the Schools (Regulation #7552R.1)</a:t>
            </a:r>
            <a:endParaRPr b="0" lang="en-US" sz="40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regulation to correspond to updated Poli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resses reporting allegations of Cyberbullying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take action for Prevention and Intervent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semination of Inform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cepts from Erie 1 BOCES – </a:t>
            </a:r>
            <a:br>
              <a:rPr sz="3600"/>
            </a:br>
            <a:r>
              <a:rPr b="0" lang="en-US" sz="3600" spc="-1" strike="noStrike">
                <a:solidFill>
                  <a:srgbClr val="333399"/>
                </a:solidFill>
                <a:latin typeface="Tahoma"/>
              </a:rPr>
              <a:t>Code of Conduct</a:t>
            </a:r>
            <a:endParaRPr b="0" lang="en-US" sz="36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ed revisions related to 21st Century Technologies</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ct's need to examine their own specific objectives, needs and circumsta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 Use of Electronic Communication Devic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amples available of most restrictive, middle-of-the-road and most liberal approach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clude staff use of electronic devices to exemplify &amp; reinforce acceptable student behavior</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ology is Changing the Way We Communicat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technologies provide a variety of ways to express ourselv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electronic devices, Social Networking Web sites, and other “tech tools” affect the way we conduct our business and personal lives; a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re creating a new “normal” in the workplace, at home and in schools.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de of Conduct (continued):</a:t>
            </a:r>
            <a:endParaRPr b="0" lang="en-US" sz="40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Under heading - </a:t>
            </a:r>
            <a:r>
              <a:rPr b="0" lang="en-US" sz="2400" spc="-1" strike="noStrike">
                <a:solidFill>
                  <a:srgbClr val="000000"/>
                </a:solidFill>
                <a:latin typeface="Tahoma"/>
              </a:rPr>
              <a:t>Prohibited Student Conduct – new sample languag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nauthorized use of personal electronic devices/equipment (i.e., cell phones, MP3 devices, and other personal electronic devices deemed inappropriate by the administratio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Unauthorized use of personal computer, laptop and/or other computerized information resources through the Erie 1 District computer system is prohibi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de of Conduct (continued):</a:t>
            </a:r>
            <a:endParaRPr b="0" lang="en-US" sz="4000" spc="-1" strike="noStrike">
              <a:solidFill>
                <a:srgbClr val="333399"/>
              </a:solidFill>
              <a:latin typeface="Tahoma"/>
            </a:endParaRPr>
          </a:p>
        </p:txBody>
      </p:sp>
      <p:sp>
        <p:nvSpPr>
          <p:cNvPr id="140" name="PlaceHolder 2"/>
          <p:cNvSpPr>
            <a:spLocks noGrp="1"/>
          </p:cNvSpPr>
          <p:nvPr>
            <p:ph/>
          </p:nvPr>
        </p:nvSpPr>
        <p:spPr>
          <a:xfrm>
            <a:off x="609480" y="1981080"/>
            <a:ext cx="8345520" cy="41515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nder heading - </a:t>
            </a:r>
            <a:r>
              <a:rPr b="0" lang="en-US" sz="2000" spc="-1" strike="noStrike">
                <a:solidFill>
                  <a:srgbClr val="000000"/>
                </a:solidFill>
                <a:latin typeface="Tahoma"/>
              </a:rPr>
              <a:t> Engage in Any Conduct That Endangers the Safety, Morals, Health or Welfare of Others – new sample language:</a:t>
            </a:r>
            <a:endParaRPr b="0" lang="en-US" sz="2000" spc="-1" strike="noStrike">
              <a:solidFill>
                <a:srgbClr val="000000"/>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amation, which includes making false or unprivileged statements or representations about an individual or identifiable group of individuals that harm the reputation of the person or the identifiable group by demeaning them. </a:t>
            </a:r>
            <a:r>
              <a:rPr b="0" lang="en-US" sz="2000" spc="-1" strike="noStrike">
                <a:solidFill>
                  <a:srgbClr val="ff0000"/>
                </a:solidFill>
                <a:latin typeface="Tahoma"/>
              </a:rPr>
              <a:t>This can include posting or publishing video, audio recordings or pictures (written material, cell phones, Internet, YouTube, etc.).</a:t>
            </a:r>
            <a:endParaRPr b="0" lang="en-US" sz="2000" spc="-1" strike="noStrike">
              <a:solidFill>
                <a:srgbClr val="000000"/>
              </a:solidFill>
              <a:latin typeface="Tahoma"/>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assment, which includes a communication (verbal, written, </a:t>
            </a:r>
            <a:r>
              <a:rPr b="0" lang="en-US" sz="2000" spc="-1" strike="noStrike">
                <a:solidFill>
                  <a:srgbClr val="ff0000"/>
                </a:solidFill>
                <a:latin typeface="Tahoma"/>
              </a:rPr>
              <a:t>electronic</a:t>
            </a:r>
            <a:r>
              <a:rPr b="0" lang="en-US" sz="2000" spc="-1" strike="noStrike">
                <a:solidFill>
                  <a:srgbClr val="000000"/>
                </a:solidFill>
                <a:latin typeface="Tahoma"/>
              </a:rPr>
              <a:t> or graphic) and/or physical conduct based on an individual’s actual or perceived race, color, religion, national origin, political affiliation, </a:t>
            </a:r>
            <a:r>
              <a:rPr b="0" lang="en-US" sz="2000" spc="-1" strike="noStrike">
                <a:solidFill>
                  <a:srgbClr val="ff0000"/>
                </a:solidFill>
                <a:latin typeface="Tahoma"/>
              </a:rPr>
              <a:t>sexual orientation</a:t>
            </a:r>
            <a:r>
              <a:rPr b="0" lang="en-US" sz="2000" spc="-1" strike="noStrike">
                <a:solidFill>
                  <a:srgbClr val="000000"/>
                </a:solidFill>
                <a:latin typeface="Tahoma"/>
              </a:rPr>
              <a:t>, sex, age, marital or veteran status, </a:t>
            </a:r>
            <a:r>
              <a:rPr b="0" lang="en-US" sz="2000" spc="-1" strike="noStrike">
                <a:solidFill>
                  <a:srgbClr val="ff0000"/>
                </a:solidFill>
                <a:latin typeface="Tahoma"/>
              </a:rPr>
              <a:t>use of a recognized guide dog, hearing dog or service dog or disabilit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ngage in Any Conduct That Endangers the Safety, Morals, Health or Welfare of Others (Continued):</a:t>
            </a:r>
            <a:endParaRPr b="0" lang="en-US" sz="2000" spc="-1" strike="noStrike">
              <a:solidFill>
                <a:srgbClr val="333399"/>
              </a:solidFill>
              <a:latin typeface="Tahoma"/>
            </a:endParaRPr>
          </a:p>
        </p:txBody>
      </p:sp>
      <p:sp>
        <p:nvSpPr>
          <p:cNvPr id="142"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ternet bullying" (also referred to as "cyberbullying") including the use of instant messaging, e-mail, Web sites, chat rooms, and text messaging, when such use interferes with the operation of the school; or infringes upon the general health, safety and welfare of students or employe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xual harassment, which includes unwelcome sexual advances, requests for sexual favors, </a:t>
            </a:r>
            <a:r>
              <a:rPr b="0" lang="en-US" sz="2000" spc="-1" strike="noStrike">
                <a:solidFill>
                  <a:srgbClr val="ff0000"/>
                </a:solidFill>
                <a:latin typeface="Tahoma"/>
              </a:rPr>
              <a:t>taking, sending or receiving sexually explicit videos, pictures or auditory recordings</a:t>
            </a:r>
            <a:r>
              <a:rPr b="0" lang="en-US" sz="2000" spc="-1" strike="noStrike">
                <a:solidFill>
                  <a:srgbClr val="000000"/>
                </a:solidFill>
                <a:latin typeface="Tahoma"/>
              </a:rPr>
              <a:t> and other verbal or physical conduct or communication of a sexual natur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brace new “tech tools” to help your School District deliver educational services to its students but don’t let them “rule” the school;</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 staff and students how to use technology responsibly and effectively;</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District’s policies, regulations and Codes of Conduct clearly and often to make sure all audiences hear your message! </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estions &amp; Discussion:</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changes in technology affecting your School Distr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ve you adapted your delivery of services to stud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hot topics” on your campus toda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ank you!</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ll Hallgren, Manager, Policy Servic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6-821-7084</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en DePalma, Sr. Coordinator, Policy Servic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6-821-7164</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ance for School Districts in the 21</a:t>
            </a:r>
            <a:r>
              <a:rPr b="0" lang="en-US" sz="4400" spc="-1" strike="noStrike" baseline="30000">
                <a:solidFill>
                  <a:srgbClr val="333399"/>
                </a:solidFill>
                <a:latin typeface="Tahoma"/>
              </a:rPr>
              <a:t>st</a:t>
            </a:r>
            <a:r>
              <a:rPr b="0" lang="en-US" sz="4400" spc="-1" strike="noStrike">
                <a:solidFill>
                  <a:srgbClr val="333399"/>
                </a:solidFill>
                <a:latin typeface="Tahoma"/>
              </a:rPr>
              <a:t> Century</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stand the difference between policies, regulations and Codes of Condu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has a distinct purpose, place and “audience” in the School Distri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certain that you regularly review these and update them as need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38088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chool District Standards and Guidelines for Web Page Publishing (Policy #3120)</a:t>
            </a:r>
            <a:br>
              <a:rPr sz="3200"/>
            </a:br>
            <a:r>
              <a:rPr b="0" lang="en-US" sz="1600" spc="-1" strike="noStrike">
                <a:solidFill>
                  <a:srgbClr val="333399"/>
                </a:solidFill>
                <a:latin typeface="Tahoma"/>
              </a:rPr>
              <a:t>(Your district’s Policy numbers may vary)</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sues to consider:</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the District’s objectives, needs and circumstance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oes the District want to use its Web site? (eg., student created Web Pages/Blogs and/or limit use to school-sponsored instructionally related matters).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in mind Student and Educational Records, Student Directory Information</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ssues to consider (continued):</a:t>
            </a:r>
            <a:endParaRPr b="0" lang="en-US" sz="32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ed with caution and consult legal counsel on issue of Copyrighted Materials Intellectual Property and Works Made for Hir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ect Student Free Speech Issues (School-sponsored Publica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District is ultimately responsible for the content of its School Websi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ere to applicable laws, District Policies and regula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sponding Regulation availab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ebsite Release Form </a:t>
            </a:r>
            <a:br>
              <a:rPr sz="4000"/>
            </a:br>
            <a:r>
              <a:rPr b="0" lang="en-US" sz="4000" spc="-1" strike="noStrike">
                <a:solidFill>
                  <a:srgbClr val="333399"/>
                </a:solidFill>
                <a:latin typeface="Tahoma"/>
              </a:rPr>
              <a:t>(Form #3120F)</a:t>
            </a:r>
            <a:endParaRPr b="0" lang="en-US" sz="40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Sample Form with appropriate staff to ensure compliance with applicable District policies and/or practices.</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tain Parent/guardian permission;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how much student identifying information to use school-affiliated Websites.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certain that Web Page Publishing policies “match” parent/guardian release 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533520"/>
            <a:ext cx="7792920" cy="12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cords Management</a:t>
            </a:r>
            <a:br>
              <a:rPr sz="3600"/>
            </a:br>
            <a:r>
              <a:rPr b="0" lang="en-US" sz="3200" spc="-1" strike="noStrike">
                <a:solidFill>
                  <a:srgbClr val="333399"/>
                </a:solidFill>
                <a:latin typeface="Tahoma"/>
              </a:rPr>
              <a:t>(Policy #5670 &amp; Regulation #5670R)</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rds must be retained in accordance with Records Retention and Disposition Schedule ED-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have plan to store electronic rec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ulation has guidelines for retention and preservation of electronic reco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19320" y="60948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ahoma"/>
              </a:rPr>
              <a:t>(Carol)</a:t>
            </a:r>
            <a:br>
              <a:rPr sz="1400"/>
            </a:br>
            <a:r>
              <a:rPr b="0" lang="en-US" sz="4400" spc="-1" strike="noStrike">
                <a:solidFill>
                  <a:srgbClr val="333399"/>
                </a:solidFill>
                <a:latin typeface="Tahoma"/>
              </a:rPr>
              <a:t>Electronic Records Issues:</a:t>
            </a:r>
            <a:endParaRPr b="0" lang="en-US" sz="4400" spc="-1" strike="noStrike">
              <a:solidFill>
                <a:srgbClr val="000000"/>
              </a:solidFill>
              <a:latin typeface="Arial"/>
            </a:endParaRPr>
          </a:p>
        </p:txBody>
      </p:sp>
      <p:sp>
        <p:nvSpPr>
          <p:cNvPr id="114" name=""/>
          <p:cNvSpPr/>
          <p:nvPr/>
        </p:nvSpPr>
        <p:spPr>
          <a:xfrm>
            <a:off x="838080" y="2057400"/>
            <a:ext cx="7620120" cy="31114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 some comments, problems and misconceptions regarding “electronic records” in schools</a:t>
            </a:r>
            <a:br>
              <a:rPr sz="2000"/>
            </a:br>
            <a:r>
              <a:rPr b="0" lang="en-US" sz="2000" spc="-1" strike="noStrike">
                <a:solidFill>
                  <a:srgbClr val="000000"/>
                </a:solidFill>
                <a:latin typeface="Tahoma"/>
              </a:rPr>
              <a:t> </a:t>
            </a:r>
            <a:endParaRPr b="0" lang="en-US" sz="2000" spc="-1" strike="noStrike">
              <a:solidFill>
                <a:srgbClr val="000000"/>
              </a:solidFill>
              <a:latin typeface="Arial"/>
            </a:endParaRPr>
          </a:p>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taff and student use of e-mail, and the need to consider ability to retrieve, retention requirements for electronic records, discovery/litigation holds, etc.</a:t>
            </a:r>
            <a:br>
              <a:rPr sz="2000"/>
            </a:br>
            <a:r>
              <a:rPr b="0" lang="en-US" sz="2000" spc="-1" strike="noStrike">
                <a:solidFill>
                  <a:srgbClr val="000000"/>
                </a:solidFill>
                <a:latin typeface="Tahoma"/>
              </a:rPr>
              <a:t> </a:t>
            </a:r>
            <a:endParaRPr b="0" lang="en-US" sz="2000" spc="-1" strike="noStrike">
              <a:solidFill>
                <a:srgbClr val="000000"/>
              </a:solidFill>
              <a:latin typeface="Arial"/>
            </a:endParaRPr>
          </a:p>
          <a:p>
            <a:pPr marL="281160" indent="-2811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 experiences with electronic records progress – </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have been?</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are now?</a:t>
            </a:r>
            <a:endParaRPr b="0" lang="en-US" sz="2000" spc="-1" strike="noStrike">
              <a:solidFill>
                <a:srgbClr val="000000"/>
              </a:solidFill>
              <a:latin typeface="Arial"/>
            </a:endParaRPr>
          </a:p>
          <a:p>
            <a:pPr lvl="1" marL="609120" indent="-23436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we are go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aff Use of Computerized Information Resources </a:t>
            </a:r>
            <a:br>
              <a:rPr sz="3200"/>
            </a:br>
            <a:r>
              <a:rPr b="0" lang="en-US" sz="3200" spc="-1" strike="noStrike">
                <a:solidFill>
                  <a:srgbClr val="333399"/>
                </a:solidFill>
                <a:latin typeface="Tahoma"/>
              </a:rPr>
              <a:t>(Policy #6410 &amp; Regulation #6410R) </a:t>
            </a:r>
            <a:endParaRPr b="0" lang="en-US" sz="32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language - minor (but significant) revision.</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tion of “without prior noti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mendment reinforces the fact that District personnel should have no expectation of privacy in information that they create, maintain or store on the School District's computer system.</a:t>
            </a:r>
            <a:endParaRPr b="0" lang="en-US" sz="2000" spc="-1" strike="noStrike">
              <a:solidFill>
                <a:srgbClr val="000000"/>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use of the district computer system is conditioned upon written agreement by the staff member that use of DCS will conform to requirements of Policy and Reg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7:39:04Z</dcterms:created>
  <dc:creator>Staff-Optiplex755</dc:creator>
  <dc:description/>
  <dc:language>en-US</dc:language>
  <cp:lastModifiedBy>Staff-Optiplex755</cp:lastModifiedBy>
  <dcterms:modified xsi:type="dcterms:W3CDTF">2010-07-14T19:47:11Z</dcterms:modified>
  <cp:revision>21</cp:revision>
  <dc:subject/>
  <dc:title>Slide 1</dc:title>
</cp:coreProperties>
</file>